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99E5-B8F4-436F-8CB6-9542C8A4B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4156-D631-4153-8EBF-F993DCA43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83D1-915E-4F4E-906E-F52B12CB3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78B5-4F1F-4730-B16F-69319E8FF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23A57-1455-4924-A8F5-BDA842323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AB1F4-927C-485C-A5D5-6DC3C999C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A35F0-006A-4F7A-85D6-C0B5C42BD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8F162-DC39-488C-8411-6812027FE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FB353-16D4-40A0-8BA1-9F40E6920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2E93B-23D9-40CC-BBED-35DE4C96B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574C4-D51B-488E-A2F3-C85C3C991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F45C-AE92-45B0-8988-2549426E6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ADEB6-8A73-48A2-A173-7A18D7658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DF497-6192-4D38-AD11-ED8C2C86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8D306-547A-4F9A-907D-7A5B21AF0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4B110-452A-4AB9-969B-41092C8E5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E52E9-6D91-49A2-B4B5-CD8F867CA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4AED-D352-465B-A3DA-ED93235A8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CF4B-7D11-42A6-9974-CE689B04C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1850-1641-4902-A07F-D47515695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2054-87A4-4080-A80A-212DCC4D5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34CA-660B-42C6-BEED-C95A2E52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FCD6-27FD-4061-9F1B-517CAF4EB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7E61-3C62-44D7-ADD0-6CEB1AA44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c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848720" y="0"/>
            <a:ext cx="0" cy="6858000"/>
          </a:xfrm>
          <a:prstGeom prst="line">
            <a:avLst/>
          </a:prstGeom>
          <a:ln w="38160">
            <a:solidFill>
              <a:srgbClr val="4d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924680" y="0"/>
            <a:ext cx="7632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077320" y="0"/>
            <a:ext cx="106668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331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97144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171CC-50E4-4492-A0E5-48FEFD0200CE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C:\pptwork\801\편집배경용\배경화면9우상.png"/>
          <p:cNvPicPr/>
          <p:nvPr/>
        </p:nvPicPr>
        <p:blipFill>
          <a:blip r:embed="rId2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78a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pptwork\801\편집배경용\배경화면9좌하.png"/>
          <p:cNvPicPr/>
          <p:nvPr/>
        </p:nvPicPr>
        <p:blipFill>
          <a:blip r:embed="rId2"/>
          <a:stretch/>
        </p:blipFill>
        <p:spPr>
          <a:xfrm>
            <a:off x="0" y="4748040"/>
            <a:ext cx="3048120" cy="2109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pptwork\801\편집배경용\배경화면9벌집들.png"/>
          <p:cNvPicPr/>
          <p:nvPr/>
        </p:nvPicPr>
        <p:blipFill>
          <a:blip r:embed="rId3"/>
          <a:stretch/>
        </p:blipFill>
        <p:spPr>
          <a:xfrm>
            <a:off x="0" y="0"/>
            <a:ext cx="45435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pptwork\801\편집배경용\배경화면9우상.png"/>
          <p:cNvPicPr/>
          <p:nvPr/>
        </p:nvPicPr>
        <p:blipFill>
          <a:blip r:embed="rId4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9047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4038120" y="6400440"/>
            <a:ext cx="2667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1D728-D455-4F40-BEB8-D1C85083780A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137124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)</a:t>
            </a: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방법을 통한 </a:t>
            </a:r>
            <a:br>
              <a:rPr sz="4400"/>
            </a:b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태도 연구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76160" y="5029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발표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·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사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균관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에 대한 서울시민의 지지계층 유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을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Lo-Mendell-Rubin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조정우도비 검증결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현실적인 해석가능성을 고려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집단의 명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beling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66.0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1.5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2.4%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설문문항에 응답할 조건부 확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conditional probabil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입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뒷장 참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14400" y="2666880"/>
          <a:ext cx="6705720" cy="1901880"/>
        </p:xfrm>
        <a:graphic>
          <a:graphicData uri="http://schemas.openxmlformats.org/drawingml/2006/table">
            <a:tbl>
              <a:tblPr/>
              <a:tblGrid>
                <a:gridCol w="776160"/>
                <a:gridCol w="776520"/>
                <a:gridCol w="635040"/>
                <a:gridCol w="706320"/>
                <a:gridCol w="1200240"/>
                <a:gridCol w="514080"/>
                <a:gridCol w="725760"/>
                <a:gridCol w="726840"/>
                <a:gridCol w="644760"/>
              </a:tblGrid>
              <a:tr h="3654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B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oung-Lo-Mendell-Rubin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o-Mendell-Rubin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 조정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H0 Loglikelihoo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2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267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,5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7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7,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4722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9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71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154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6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473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1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09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38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16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6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3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1" name="Object 56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05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3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개 잠재집단의 조건부 응답확률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1066680"/>
          <a:ext cx="6705720" cy="5813640"/>
        </p:xfrm>
        <a:graphic>
          <a:graphicData uri="http://schemas.openxmlformats.org/drawingml/2006/table">
            <a:tbl>
              <a:tblPr/>
              <a:tblGrid>
                <a:gridCol w="2082960"/>
                <a:gridCol w="2082600"/>
                <a:gridCol w="846360"/>
                <a:gridCol w="847800"/>
                <a:gridCol w="846000"/>
              </a:tblGrid>
              <a:tr h="257760"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에 대한 쟁점 지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잠재계층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Latent Class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10800">
                      <a:solidFill>
                        <a:srgbClr val="0000ff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4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할당사례수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757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66.0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551.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1.5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94.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12.4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05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구조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경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,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 등이 주시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차트 4" descr=""/>
          <p:cNvPicPr/>
          <p:nvPr/>
        </p:nvPicPr>
        <p:blipFill>
          <a:blip r:embed="rId1"/>
          <a:stretch/>
        </p:blipFill>
        <p:spPr>
          <a:xfrm>
            <a:off x="378000" y="2432160"/>
            <a:ext cx="7705440" cy="4279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1295280"/>
          <a:ext cx="6934320" cy="5281560"/>
        </p:xfrm>
        <a:graphic>
          <a:graphicData uri="http://schemas.openxmlformats.org/drawingml/2006/table">
            <a:tbl>
              <a:tblPr/>
              <a:tblGrid>
                <a:gridCol w="1068480"/>
                <a:gridCol w="857160"/>
                <a:gridCol w="943200"/>
                <a:gridCol w="411120"/>
                <a:gridCol w="944640"/>
                <a:gridCol w="409320"/>
                <a:gridCol w="944640"/>
                <a:gridCol w="409680"/>
                <a:gridCol w="677880"/>
                <a:gridCol w="26820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3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6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1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7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7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8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2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42840" y="1295280"/>
          <a:ext cx="6829560" cy="5270760"/>
        </p:xfrm>
        <a:graphic>
          <a:graphicData uri="http://schemas.openxmlformats.org/drawingml/2006/table">
            <a:tbl>
              <a:tblPr/>
              <a:tblGrid>
                <a:gridCol w="1047960"/>
                <a:gridCol w="841320"/>
                <a:gridCol w="974880"/>
                <a:gridCol w="353880"/>
                <a:gridCol w="927000"/>
                <a:gridCol w="401760"/>
                <a:gridCol w="954000"/>
                <a:gridCol w="374760"/>
                <a:gridCol w="681120"/>
                <a:gridCol w="27288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7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8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3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0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4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7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56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295280"/>
          <a:ext cx="6858000" cy="5281560"/>
        </p:xfrm>
        <a:graphic>
          <a:graphicData uri="http://schemas.openxmlformats.org/drawingml/2006/table">
            <a:tbl>
              <a:tblPr/>
              <a:tblGrid>
                <a:gridCol w="1052640"/>
                <a:gridCol w="844560"/>
                <a:gridCol w="922320"/>
                <a:gridCol w="412560"/>
                <a:gridCol w="959040"/>
                <a:gridCol w="374400"/>
                <a:gridCol w="920880"/>
                <a:gridCol w="414360"/>
                <a:gridCol w="666720"/>
                <a:gridCol w="290520"/>
              </a:tblGrid>
              <a:tr h="274680">
                <a:tc gridSpan="2" rowSpan="2">
                  <a:txBody>
                    <a:bodyPr lIns="34200" rIns="34200" tIns="9360" bIns="936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8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rowSpan="3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2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6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6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9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1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22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5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요약 및 논의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가지 유형의 지지계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정책에 대한 비일관적 태도 이면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정한 패턴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많은 복지확대 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체 서울시민의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/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 복지확대 지지층으로 분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가능성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이러한 지지가 정치적 행위로 이어질지는 의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와 정치적 행위간에는 불일치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화 과정에 수많은 억제요인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규범적인 복지태도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제도적 이해관계가 작동할 가능성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과 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가 주요한 변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가 개인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self-interest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다는 규범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ormal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으로 결정되는 경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적 문제일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대상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 및 미취업자의 비율이 높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고령 및 민간보험가입자의 복지태도가 부정적이라는 면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향후 복지제도의 확대에 따른 제도적 이해관계가 작동할 가능성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495680"/>
            <a:ext cx="761976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감사합니다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1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문제제기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다양성은 정치적 선택의 차이에서 비롯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9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치적 선택은 개인의 이해관계나 인식이 기초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welfare attitude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이것이 반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로 인해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계적으로 복지태도에 대한 연구 급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도 마찬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의 기존 연구들에서 특기할 사항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정의하고 측정하는 방식이 다양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정책대상은 매우 다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ex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분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 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근 점차 수렴해 가는 양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문제는 이를 종합하는 방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-윤명조240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단순합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격이 다른 문제를 하나로 측정하는 것의 문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Kangas, 1997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②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별적으로 다룬 후 종합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이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균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류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0),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제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정책대상별로 태도가 다양한 것이 당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오히려 다양성을 전제하고 그 안에서 패턴을 찾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설명하는 기존 이론에 부합하지 않는 한국의 현실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원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책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작적 정의 및 연구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국의 복지발전 양상이 서구와 다르기 때문일 수도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러한 상황에서는 한국사회의 현실을 있는 그대로 파악하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차별적 접근방식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귀납적 방식에 입각한 접근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된 자료를 바탕으로 현실을 객관적으로 파악하려는 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련의 복지정책 쟁점들에 대한 사람들의 경향적 반응을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적인 태도에도 일정한 패턴이 있을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리고 이것이 집단화되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하나의 계층을 구성할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목적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tent Class Analysi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활용해 서울시민의 복지정책에 대한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 및 구조를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2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복지정책의 쟁점과 지지계층 구별요인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쟁점의 선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평가의 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영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명확히 해야 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국가 연구에서 가장 고전적인 정책쟁점으로부터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쟁점영역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평등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 정책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적 복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복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	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에게 복지혜택을 주는 것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제한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부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를 통한 재정확대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기존 이론들로부터 지지계층의 유형을 구별할 것으로 예상되는 주요요인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과 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과 노인은 복지수혜자의 입장이므로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실업 및 소득손실의 위험이 적기 때문에 국가복지 반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주적 가치의 사회화로 인해 관용적 태도를 가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제도의 목적에 따라 다른 양상을 보일 것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시장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계급은 복지정책에 긍정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프로그램과 결부된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ew politic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경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수급자는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보험은 국가복지의 보완재이자 대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입자는 반복지적 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3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연구방법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차 서울시 복지패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구대상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~9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이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에 가중치 적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측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항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소생활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두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범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하지 않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로 측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533520" y="1523880"/>
          <a:ext cx="7162560" cy="4876920"/>
        </p:xfrm>
        <a:graphic>
          <a:graphicData uri="http://schemas.openxmlformats.org/drawingml/2006/table">
            <a:tbl>
              <a:tblPr/>
              <a:tblGrid>
                <a:gridCol w="990360"/>
                <a:gridCol w="457200"/>
                <a:gridCol w="838440"/>
                <a:gridCol w="4876560"/>
              </a:tblGrid>
              <a:tr h="381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설명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측정변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조작적 정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40140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인구학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성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남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이상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~ 9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미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역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울시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관할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광역군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도심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연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재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수료는 각 학력별 교육연수의 중간값 부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경제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인 월평균 소득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연대수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비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일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기준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무급가족종사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제도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이해관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보험수급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없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있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민간보험가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미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지지계층유형 구별요인 조작적 정의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560" y="91404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전략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, Latent Class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장점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a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형검증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odel fit statistic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통해 잠재집단의 수를 귀납적으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b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범주형 자료에 활용가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선형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inear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가정하지 않아도 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유형화 방식에 적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실 복지태도가 선형적이라 가정할 필요는 없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의 구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항 로지스틱 회귀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ultinominal logistic regression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이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이상인 경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계층유형을 결정하는 요인을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에서는 탐색적인 차원에서 다루어지는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4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분석결과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055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특성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반적으로 최저생활보장과 빈부격차감소에 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는 반대가 강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확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대해서는 찬반비율이 비슷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과 포괄적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편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를 놓고 의견의 차이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처럼 복지태도의 비일관성이 관찰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8080" y="3581280"/>
          <a:ext cx="3429000" cy="292572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5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7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9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343400" y="3581280"/>
          <a:ext cx="3429000" cy="205740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376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2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5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2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김사일</cp:lastModifiedBy>
  <dcterms:modified xsi:type="dcterms:W3CDTF">2010-02-18T05:09:59Z</dcterms:modified>
  <cp:revision>131</cp:revision>
  <dc:subject/>
  <dc:title>PowerPoint 프레젠테이션</dc:title>
</cp:coreProperties>
</file>